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87F-CBC0-4579-B902-46951C29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59C-D0A0-4026-ACE3-FA7D615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692-637A-47A9-B544-F1B0E929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DB7-ECD2-4FE9-AC5E-74F5A276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7C8-49DF-4CD6-935B-7AAF661D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A56-6E81-4520-B1F1-7E48B9AF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FE5-49F2-416E-8B94-C6DFF94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B2A-37C8-4B72-B3C5-4443861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2DA-F898-4D17-AA2F-D60E8EEF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5CD-DED5-49D8-BADA-BBBAEE4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CDC-8D27-47A6-83C1-7A565C9D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47C-D5FA-443C-87B3-B2839D8D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EAC-7F71-438E-8879-CA340C835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siDyn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0:07:47Z</dcterms:created>
  <dc:creator>Jamie Fleming</dc:creator>
  <dc:description/>
  <dc:language>en-US</dc:language>
  <cp:lastModifiedBy>Jamie Fleming</cp:lastModifiedBy>
  <dcterms:modified xsi:type="dcterms:W3CDTF">2009-07-07T20:09:37Z</dcterms:modified>
  <cp:revision>1</cp:revision>
  <dc:subject/>
  <dc:title>SirsiDynix</dc:title>
</cp:coreProperties>
</file>